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772400" cy="100584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6E9-B26A-4E94-ACF9-64B9D466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1264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7805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216-5EF4-430B-99E8-39416336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1264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1264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7805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7805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638-09B8-403D-830B-5B88CDD0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1264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1264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1264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7805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7805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7805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B62-9056-4372-9B14-1A415BC2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1264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C1E-1171-47EA-BD8D-1FC80917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1264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AEE-9E3E-41A3-B7CC-E78AE5FB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1264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1264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00BF-B781-4F09-92F4-D66AD02A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E52-014C-4587-9651-451AE12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1400"/>
            <a:ext cx="69948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A03-4198-4907-BA94-09E46E66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1264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1264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7805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BA5-DE6B-4A44-8887-DC1A0C76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1264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1264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7805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C20-A504-47C9-A443-398523BD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1264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1264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7805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4BD-FE2F-4F2A-9FA4-5E1E9A5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1400"/>
            <a:ext cx="69948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1264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43120" y="9353520"/>
            <a:ext cx="24861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88800" y="9353520"/>
            <a:ext cx="17877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95840" y="9353520"/>
            <a:ext cx="17877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209-C0D5-4C06-93DB-1F3B2196EEBE}" type="slidenum">
              <a:rPr b="0" lang="en-US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801720" y="960480"/>
            <a:ext cx="4497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EDIC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152280" y="2514600"/>
            <a:ext cx="7131240" cy="4006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2819520" y="5181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ease open the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CD dr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USB Drive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re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HMCS setup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2"/>
          <p:cNvSpPr/>
          <p:nvPr/>
        </p:nvSpPr>
        <p:spPr>
          <a:xfrm>
            <a:off x="5105520" y="3581280"/>
            <a:ext cx="16002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6"/>
          <p:cNvCxnSpPr/>
          <p:nvPr/>
        </p:nvCxnSpPr>
        <p:spPr>
          <a:xfrm flipV="1">
            <a:off x="5105520" y="3885480"/>
            <a:ext cx="381600" cy="1220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Rectangle 7"/>
          <p:cNvSpPr/>
          <p:nvPr/>
        </p:nvSpPr>
        <p:spPr>
          <a:xfrm>
            <a:off x="2819520" y="5181480"/>
            <a:ext cx="3657600" cy="64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52280" y="2514600"/>
            <a:ext cx="7131240" cy="4006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bject 2"/>
          <p:cNvSpPr/>
          <p:nvPr/>
        </p:nvSpPr>
        <p:spPr>
          <a:xfrm>
            <a:off x="179280" y="1066680"/>
            <a:ext cx="7481880" cy="4199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3"/>
          <p:cNvCxnSpPr/>
          <p:nvPr/>
        </p:nvCxnSpPr>
        <p:spPr>
          <a:xfrm flipH="1" flipV="1">
            <a:off x="380520" y="1980720"/>
            <a:ext cx="1982160" cy="4115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96" name="Oval 1"/>
          <p:cNvSpPr/>
          <p:nvPr/>
        </p:nvSpPr>
        <p:spPr>
          <a:xfrm>
            <a:off x="179280" y="1523880"/>
            <a:ext cx="430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209680" y="622944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Double click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HMCS Imaging Applicatio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for the first ti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ne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Register the Ap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209680" y="6180120"/>
            <a:ext cx="2514600" cy="1515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9280" y="1066680"/>
            <a:ext cx="7481880" cy="419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ject 2"/>
          <p:cNvSpPr/>
          <p:nvPr/>
        </p:nvSpPr>
        <p:spPr>
          <a:xfrm>
            <a:off x="358920" y="1111320"/>
            <a:ext cx="6727680" cy="558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3"/>
          <p:cNvSpPr/>
          <p:nvPr/>
        </p:nvSpPr>
        <p:spPr>
          <a:xfrm>
            <a:off x="347760" y="6729480"/>
            <a:ext cx="8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358920" y="1219320"/>
            <a:ext cx="6703920" cy="54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362320" y="686916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Double click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MCS Applic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Dental Care Regist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ndow will pop 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362320" y="6858000"/>
            <a:ext cx="243828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719280" y="8501040"/>
            <a:ext cx="6400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: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f User click on </a:t>
            </a:r>
            <a:r>
              <a:rPr b="1" i="1" lang="en-US" sz="1800" spc="-1" strike="noStrike">
                <a:solidFill>
                  <a:srgbClr val="0d0d0d"/>
                </a:solidFill>
                <a:latin typeface="Calibri"/>
              </a:rPr>
              <a:t>Register Later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MCS Application will run on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r </a:t>
            </a:r>
            <a:r>
              <a:rPr b="1" i="1" lang="en-US" sz="1800" spc="-1" strike="noStrike">
                <a:solidFill>
                  <a:srgbClr val="0d0d0d"/>
                </a:solidFill>
                <a:latin typeface="Calibri"/>
              </a:rPr>
              <a:t>Seven(7) day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nly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19280" y="8534520"/>
            <a:ext cx="6333840" cy="64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bject 2"/>
          <p:cNvSpPr/>
          <p:nvPr/>
        </p:nvSpPr>
        <p:spPr>
          <a:xfrm>
            <a:off x="417600" y="412920"/>
            <a:ext cx="6923160" cy="52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417600" y="457200"/>
            <a:ext cx="6912000" cy="5181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431640" y="5943600"/>
            <a:ext cx="69231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ROCESS OF DENTAL CARE REGIST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TEP1</a:t>
            </a: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ter Serial Key which is given by MEDICAM with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TEP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on Generate Question Ke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TEP3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Generation of Question Key, User will get Questio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TEP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ter getting Question Key User need to Enter Answ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990720" y="1066680"/>
            <a:ext cx="175248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1409760" y="1544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ep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4191120" y="1981080"/>
            <a:ext cx="2628720" cy="811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5091120" y="2444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ep-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2"/>
          <p:cNvSpPr/>
          <p:nvPr/>
        </p:nvSpPr>
        <p:spPr>
          <a:xfrm>
            <a:off x="990720" y="2895480"/>
            <a:ext cx="17524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409760" y="31798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ep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1092240" y="3922560"/>
            <a:ext cx="190512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616040" y="4265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ep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770040" y="907740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: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For Answer Key User need to contact to company on  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	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this number  +91 8767303439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17600" y="5923080"/>
            <a:ext cx="6923160" cy="3862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7467840" cy="4280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12"/>
          <p:cNvSpPr/>
          <p:nvPr/>
        </p:nvSpPr>
        <p:spPr>
          <a:xfrm>
            <a:off x="3048120" y="2590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 op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Folder name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MEDICAM IMAGING SETUP Ver0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3048120" y="2590920"/>
            <a:ext cx="3352680" cy="645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1"/>
          <p:cNvSpPr/>
          <p:nvPr/>
        </p:nvSpPr>
        <p:spPr>
          <a:xfrm>
            <a:off x="990720" y="914400"/>
            <a:ext cx="12189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3"/>
          <p:cNvCxnSpPr/>
          <p:nvPr/>
        </p:nvCxnSpPr>
        <p:spPr>
          <a:xfrm flipH="1" flipV="1">
            <a:off x="2056680" y="1028160"/>
            <a:ext cx="1600920" cy="1492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Rectangle 4"/>
          <p:cNvSpPr/>
          <p:nvPr/>
        </p:nvSpPr>
        <p:spPr>
          <a:xfrm>
            <a:off x="152280" y="380880"/>
            <a:ext cx="7467840" cy="426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7543800" cy="4416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3733920" y="3219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Folder name of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HMCS NEW Ver.0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11"/>
          <p:cNvSpPr/>
          <p:nvPr/>
        </p:nvSpPr>
        <p:spPr>
          <a:xfrm>
            <a:off x="914400" y="1219320"/>
            <a:ext cx="121932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Straight Arrow Connector 13"/>
          <p:cNvCxnSpPr/>
          <p:nvPr/>
        </p:nvCxnSpPr>
        <p:spPr>
          <a:xfrm flipH="1" flipV="1">
            <a:off x="1637640" y="1333080"/>
            <a:ext cx="2591640" cy="18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4"/>
          <p:cNvSpPr/>
          <p:nvPr/>
        </p:nvSpPr>
        <p:spPr>
          <a:xfrm>
            <a:off x="3733920" y="3219480"/>
            <a:ext cx="2514600" cy="569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114480" y="685800"/>
            <a:ext cx="7543800" cy="4416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bject 2"/>
          <p:cNvSpPr/>
          <p:nvPr/>
        </p:nvSpPr>
        <p:spPr>
          <a:xfrm>
            <a:off x="270000" y="1109520"/>
            <a:ext cx="7246800" cy="4075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320040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Double click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Setup file name of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HMCS IMAG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"/>
          <p:cNvSpPr/>
          <p:nvPr/>
        </p:nvSpPr>
        <p:spPr>
          <a:xfrm>
            <a:off x="1219320" y="1981080"/>
            <a:ext cx="1295280" cy="152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200400" y="3352680"/>
            <a:ext cx="2971800" cy="64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5"/>
          <p:cNvCxnSpPr/>
          <p:nvPr/>
        </p:nvCxnSpPr>
        <p:spPr>
          <a:xfrm flipH="1" flipV="1">
            <a:off x="1980720" y="2056680"/>
            <a:ext cx="137232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Rectangle 3"/>
          <p:cNvSpPr/>
          <p:nvPr/>
        </p:nvSpPr>
        <p:spPr>
          <a:xfrm>
            <a:off x="270000" y="1109520"/>
            <a:ext cx="7246800" cy="4075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bject 2"/>
          <p:cNvSpPr/>
          <p:nvPr/>
        </p:nvSpPr>
        <p:spPr>
          <a:xfrm>
            <a:off x="358920" y="914400"/>
            <a:ext cx="7235640" cy="405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590920" y="541008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EASE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ILE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INSTALLING THE SOFT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590920" y="5410080"/>
            <a:ext cx="274320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3"/>
          <p:cNvCxnSpPr/>
          <p:nvPr/>
        </p:nvCxnSpPr>
        <p:spPr>
          <a:xfrm flipV="1">
            <a:off x="3047760" y="2818800"/>
            <a:ext cx="1080" cy="251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Rectangle 2"/>
          <p:cNvSpPr/>
          <p:nvPr/>
        </p:nvSpPr>
        <p:spPr>
          <a:xfrm>
            <a:off x="358920" y="914400"/>
            <a:ext cx="7235640" cy="40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ject 2"/>
          <p:cNvSpPr/>
          <p:nvPr/>
        </p:nvSpPr>
        <p:spPr>
          <a:xfrm>
            <a:off x="179280" y="1109520"/>
            <a:ext cx="7442280" cy="4184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2362320" y="60958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on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Confirm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2"/>
          <p:cNvSpPr/>
          <p:nvPr/>
        </p:nvSpPr>
        <p:spPr>
          <a:xfrm>
            <a:off x="4724280" y="3962520"/>
            <a:ext cx="53352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38280" y="6095880"/>
            <a:ext cx="3124440" cy="64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6"/>
          <p:cNvCxnSpPr/>
          <p:nvPr/>
        </p:nvCxnSpPr>
        <p:spPr>
          <a:xfrm flipV="1">
            <a:off x="4191120" y="4190760"/>
            <a:ext cx="762480" cy="18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Rectangle 1"/>
          <p:cNvSpPr/>
          <p:nvPr/>
        </p:nvSpPr>
        <p:spPr>
          <a:xfrm>
            <a:off x="150840" y="1066680"/>
            <a:ext cx="7470720" cy="422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bject 2"/>
          <p:cNvSpPr/>
          <p:nvPr/>
        </p:nvSpPr>
        <p:spPr>
          <a:xfrm>
            <a:off x="160200" y="1216080"/>
            <a:ext cx="7075800" cy="5105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523880" y="7010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Confirmation of  Installation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Applic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Publish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ndow will popup then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Click on 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3"/>
          <p:cNvCxnSpPr/>
          <p:nvPr/>
        </p:nvCxnSpPr>
        <p:spPr>
          <a:xfrm flipV="1">
            <a:off x="2666520" y="5333400"/>
            <a:ext cx="1080" cy="1600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Oval 1"/>
          <p:cNvSpPr/>
          <p:nvPr/>
        </p:nvSpPr>
        <p:spPr>
          <a:xfrm>
            <a:off x="1523880" y="5029200"/>
            <a:ext cx="22100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1523880" y="7048440"/>
            <a:ext cx="2819520" cy="112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52280" y="1219320"/>
            <a:ext cx="7075440" cy="5105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bject 2"/>
          <p:cNvSpPr/>
          <p:nvPr/>
        </p:nvSpPr>
        <p:spPr>
          <a:xfrm>
            <a:off x="301680" y="1143000"/>
            <a:ext cx="7169040" cy="40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2209680" y="5486400"/>
            <a:ext cx="2895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installation Complete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Application Successfully install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ssage window will pop up close the window by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clicking Cl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"/>
          <p:cNvSpPr/>
          <p:nvPr/>
        </p:nvSpPr>
        <p:spPr>
          <a:xfrm>
            <a:off x="4648320" y="3855960"/>
            <a:ext cx="523800" cy="258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Straight Arrow Connector 4"/>
          <p:cNvCxnSpPr/>
          <p:nvPr/>
        </p:nvCxnSpPr>
        <p:spPr>
          <a:xfrm flipV="1">
            <a:off x="3048120" y="4114440"/>
            <a:ext cx="167688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Rectangle 5"/>
          <p:cNvSpPr/>
          <p:nvPr/>
        </p:nvSpPr>
        <p:spPr>
          <a:xfrm>
            <a:off x="2209680" y="5562720"/>
            <a:ext cx="289584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01680" y="1143000"/>
            <a:ext cx="7169040" cy="4022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170840" cy="4038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2057400" y="5638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Successful instal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Application Ic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app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on Desk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3"/>
          <p:cNvCxnSpPr/>
          <p:nvPr/>
        </p:nvCxnSpPr>
        <p:spPr>
          <a:xfrm flipH="1" flipV="1">
            <a:off x="1065960" y="3124080"/>
            <a:ext cx="1753560" cy="24390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92" name="Rectangle 4"/>
          <p:cNvSpPr/>
          <p:nvPr/>
        </p:nvSpPr>
        <p:spPr>
          <a:xfrm>
            <a:off x="2057400" y="5638680"/>
            <a:ext cx="2743200" cy="924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80880" y="990720"/>
            <a:ext cx="7170840" cy="4038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31T10:30:18Z</dcterms:created>
  <dc:creator>Online2PDF.com</dc:creator>
  <dc:description/>
  <dc:language>en-US</dc:language>
  <cp:lastModifiedBy>umaid</cp:lastModifiedBy>
  <dcterms:modified xsi:type="dcterms:W3CDTF">2022-01-08T05:57:13Z</dcterms:modified>
  <cp:revision>63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12-31T00:00:00Z</vt:filetime>
  </property>
  <property fmtid="{D5CDD505-2E9C-101B-9397-08002B2CF9AE}" pid="3" name="LastSaved">
    <vt:filetime>2021-12-31T00:00:00Z</vt:filetime>
  </property>
</Properties>
</file>